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95560"/>
        <c:axId val="47866212"/>
      </c:barChart>
      <c:catAx>
        <c:axId val="79495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66212"/>
        <c:crosses val="autoZero"/>
        <c:auto val="1"/>
        <c:lblAlgn val="ctr"/>
        <c:lblOffset val="100"/>
        <c:noMultiLvlLbl val="0"/>
      </c:catAx>
      <c:valAx>
        <c:axId val="47866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5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6B0-A1D7-4B5E-8324-B9A70D5A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3AF-8B72-4311-975F-A112660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6FC-E8F1-495C-A98B-2F228E7F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575-80C4-4235-95DA-D9C26FDD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659-6E7E-42F2-B9FE-86BD4C93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5F2-1C6F-4B77-8D6E-0C5F4AE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F2A-0BE1-499D-A077-83B435C2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BA6-CE52-4AD0-9132-6BC77D8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6CA-7482-40F2-A40F-BFE3C552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474-7266-484B-8D26-80F68BF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13D-12D3-4E1E-AFF9-4B1775A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287-9770-47AB-9205-1177E04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AF16F-FD37-472F-A355-4E0F034D3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