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52461"/>
        <c:axId val="35547265"/>
      </c:barChart>
      <c:catAx>
        <c:axId val="74252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47265"/>
        <c:crosses val="autoZero"/>
        <c:auto val="1"/>
        <c:lblAlgn val="ctr"/>
        <c:lblOffset val="100"/>
        <c:noMultiLvlLbl val="0"/>
      </c:catAx>
      <c:valAx>
        <c:axId val="35547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52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FBA-6904-4F83-9080-B69D7490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24E-6F46-4B1D-BD1A-BC86CC74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E3D-089F-475F-86C8-25AFBB67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E58-F965-4A3F-8FDC-64AC474B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7C1-F9F7-4ABA-B524-4E412504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AF9-35D4-4CB3-BE21-0AB06A70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142-3924-4D82-B55F-22A75DD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D4B-270D-42AF-BA9C-6C87EA7E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00E-8487-40E3-9269-BFD9198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EB5-4F64-4C93-AEA5-86A40EA6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DE3-B506-4AB6-9E4A-23F99A42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B76-86D4-410E-A9B2-6AA06255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133C7-B88F-4F49-8EFD-A696A80970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