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22680"/>
        <c:axId val="33954732"/>
      </c:barChart>
      <c:catAx>
        <c:axId val="99922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54732"/>
        <c:crosses val="autoZero"/>
        <c:auto val="1"/>
        <c:lblAlgn val="ctr"/>
        <c:lblOffset val="100"/>
        <c:noMultiLvlLbl val="0"/>
      </c:catAx>
      <c:valAx>
        <c:axId val="33954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22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5B2-D3EF-4081-B8FA-29FF5479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305-FF83-4C32-A943-B14B6AC7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6A8-8F4E-4480-A5CD-0088E6B5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D6E-E328-4753-826C-E63FAAC2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7D2-763D-4439-898F-722E0BA1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608-3BA4-46AF-8AD9-9F900A5D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069-4075-4844-94A8-0AEE0ED0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415-A970-46D3-9909-D0358F4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246-3B0F-449F-AF64-74051CFF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D87-3EE3-4A98-8D6B-F3203F7F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C14-DE97-42AE-809D-0F8E7B1D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20D-0702-4AFA-91AB-1F16BD06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D53DE-F7C5-4E20-90BF-8793F5E4B8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