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45283"/>
        <c:axId val="96857737"/>
      </c:barChart>
      <c:catAx>
        <c:axId val="93945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57737"/>
        <c:crosses val="autoZero"/>
        <c:auto val="1"/>
        <c:lblAlgn val="ctr"/>
        <c:lblOffset val="100"/>
        <c:noMultiLvlLbl val="0"/>
      </c:catAx>
      <c:valAx>
        <c:axId val="96857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45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F00C-DBEF-4BFA-855F-3BFBDE24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F55-B7D7-4EC9-8793-569EBA67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2CB-2BF3-40FD-A513-CB9DEBF6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057-8ED1-4C5F-92BE-10F25566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853F-F4E7-4EEB-8D3B-02C52C9A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D71-C508-4BDB-A3BD-99A2A3E7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F51-61CF-4AFB-882C-36510B9B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894-7336-413C-A6CE-851BA07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44D-2B66-4DE2-9481-ACD224E8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AD1-0747-423F-96E7-68DCE86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3767-0AFD-4967-9223-F198345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C218-5464-4AEC-AD8E-3A2537C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E73A4-76F3-417A-AAE3-91678240E5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