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14006"/>
        <c:axId val="22021973"/>
      </c:barChart>
      <c:catAx>
        <c:axId val="96714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1973"/>
        <c:crosses val="autoZero"/>
        <c:auto val="1"/>
        <c:lblAlgn val="ctr"/>
        <c:lblOffset val="100"/>
        <c:noMultiLvlLbl val="0"/>
      </c:catAx>
      <c:valAx>
        <c:axId val="22021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14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B5B-BE30-450F-86F6-E506D5AF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AF2-713D-4989-B50D-65C94561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7C4-3713-4EE6-83D9-5F2EC34B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C48-7050-4969-9FB7-4F73F77A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CCE-E67A-4D19-A816-B4709668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4BF-CCAB-4462-8C69-2B4678A9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C17-B007-4660-9961-46868B06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649-E393-4B0B-88C8-A3BD7F0E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149-B6CA-4F1C-A128-FF0F28CF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ECB-671C-4384-9345-AFA83B24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F95-DC14-437F-8C30-8FED914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A4E-3865-4829-AD05-785865C1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26287-4DA0-4B93-9106-55740B7323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