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56297"/>
        <c:axId val="42488266"/>
      </c:barChart>
      <c:catAx>
        <c:axId val="93956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8266"/>
        <c:crosses val="autoZero"/>
        <c:auto val="1"/>
        <c:lblAlgn val="ctr"/>
        <c:lblOffset val="100"/>
        <c:noMultiLvlLbl val="0"/>
      </c:catAx>
      <c:valAx>
        <c:axId val="42488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56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5A6-6A1D-4BDD-88A3-5D4B68F9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969-5A08-4E4E-9A1D-2805A03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CF9-4187-4DE7-A9D6-2D52422A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030-A59F-4307-9F0C-53006AF4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C47-B1F8-49A3-AFE7-2E068A5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273-1BF0-4C1F-B956-F8E4BAD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121-0CD4-4ED1-88E8-12455E6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B4B-F519-4BFD-A418-8427721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020-09C9-477B-B224-2D9555A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D32-E465-46E2-8639-425BEDB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B85-3C77-4682-9952-A914388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CB5-66BF-4230-97D3-29930B9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402E-7595-451C-878F-1A5AD647E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