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523354"/>
        <c:axId val="64638662"/>
      </c:barChart>
      <c:catAx>
        <c:axId val="705233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638662"/>
        <c:crosses val="autoZero"/>
        <c:auto val="1"/>
        <c:lblAlgn val="ctr"/>
        <c:lblOffset val="100"/>
        <c:noMultiLvlLbl val="0"/>
      </c:catAx>
      <c:valAx>
        <c:axId val="646386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5233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3880-81B7-4B7D-9480-141815614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40D1-DA68-4112-85ED-5153A826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A65B-5109-45D9-9F13-D44505844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2397-D9C9-406F-BF65-66595720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4103-5A03-48BB-A340-0DC97128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2FDF-5970-4D4B-85C7-5C1396F9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7464-67A4-49D6-8567-0FEACA59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A450-E06E-4571-8014-F0A6B830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770B-8241-4C13-B6A7-B334E01B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B86C-C1DA-4606-9BA0-FA4B7E41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827F-BAAE-4DDB-8C55-06CDFF28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DD50-94DF-4390-B748-5D58493C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0D0EF-2AA3-49DA-BBC2-5BD1B696BD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