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33845"/>
        <c:axId val="7212466"/>
      </c:barChart>
      <c:catAx>
        <c:axId val="25633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2466"/>
        <c:crosses val="autoZero"/>
        <c:auto val="1"/>
        <c:lblAlgn val="ctr"/>
        <c:lblOffset val="100"/>
        <c:noMultiLvlLbl val="0"/>
      </c:catAx>
      <c:valAx>
        <c:axId val="7212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33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6DC-FB53-4C9E-A4C0-711E4498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7EE-EF5E-4E5D-B788-F7F7EB05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CA7-BE4A-408E-87F0-8E71115E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739-07FC-4E99-8528-8FC2C9E9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F4E-129B-4A9E-85F0-B69D544A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80B-40C1-4561-9397-5CC1284C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A14-1B41-4394-8CF5-287EF747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134-AF23-4896-BC13-5F0CA966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FF9-C7E7-4AD3-BA37-9F72E90B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B98-57A0-43F1-88D1-ED6A0B4F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26A-ACD8-4F4C-9F00-A3429ED1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435-C8BF-4ED0-A1DE-9E4986DE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23C2E-3BBB-4009-AB21-C218461A3F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