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7601"/>
        <c:axId val="60911688"/>
      </c:barChart>
      <c:catAx>
        <c:axId val="2637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11688"/>
        <c:crosses val="autoZero"/>
        <c:auto val="1"/>
        <c:lblAlgn val="ctr"/>
        <c:lblOffset val="100"/>
        <c:noMultiLvlLbl val="0"/>
      </c:catAx>
      <c:valAx>
        <c:axId val="60911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7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167-8171-40E2-8484-A5E0BA38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8AE-8390-4C95-BC68-DDD9B23C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576-6F3B-4A8B-9CD9-5EE1910D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559-59EF-4DB3-8FFF-C9EABF6F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433-6071-4C43-B880-216BB996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F68-AF69-4D43-B0BF-D2225EB3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C9B-AD65-4769-A280-F678419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9FF-65BA-482B-9257-15E8C068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355-D5C2-4E2D-9478-10472EE7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EBA-F414-43A9-BD24-EA44ED17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F90-4940-49AF-B340-DCC03D6E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BE7-12F7-4420-9025-0CE77AF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4B0F-D5C5-414E-A13F-DA5A6125F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