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56196"/>
        <c:axId val="65744804"/>
      </c:barChart>
      <c:catAx>
        <c:axId val="57256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44804"/>
        <c:crosses val="autoZero"/>
        <c:auto val="1"/>
        <c:lblAlgn val="ctr"/>
        <c:lblOffset val="100"/>
        <c:noMultiLvlLbl val="0"/>
      </c:catAx>
      <c:valAx>
        <c:axId val="65744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56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18F-3C20-434A-A02F-44FC72AC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3E7-F017-47BE-8A96-D800DAE7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81B-0C1D-4988-92FA-0038F7D0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27C-8F0C-4520-A3E6-7AB6D5C1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B4B-F29B-4092-BC3C-E3BE582F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234-C561-4C1B-9B9A-445387CF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A5B0-9F94-4A33-9585-B83CF7DC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051-7CE1-4D6A-A814-38891559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19E-CE0B-4BE5-96FB-4499E416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070-DD0F-4052-938E-EA5E8BA4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B857-EBCD-44B1-BBA8-DF528707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22A-1292-4E25-891E-E1B657D9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05618-9095-4546-8E7C-2DE837E24C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