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FA18-F6A4-41AF-91D4-C8CF8926C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1B83-9E28-4CF0-8DFB-316688AC5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F8F4E-9456-4C3C-B355-CB702B1CB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0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5197-02C2-4777-9BC8-0D49203718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2BC2-3501-4856-9398-5FBFEEDEE7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C995-0C9C-4122-B573-33E3A454F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D4AE-0751-4FC7-B3E5-8E9608D94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4DD5-92A0-495A-846D-D615C7376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58640" y="202680"/>
            <a:ext cx="74674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4B4C1-0B05-4A95-9FFB-2901D4BC8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9F56-086F-4D80-99F2-641840D70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624C-920B-4ABC-919B-A9EB31D4C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DDA5-1B45-468B-AA6E-7C37C4C48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190760" y="6286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6EE4-50F1-4BB9-8D8F-51E80DE219A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172200"/>
            <a:ext cx="8534160" cy="0"/>
          </a:xfrm>
          <a:prstGeom prst="line">
            <a:avLst/>
          </a:prstGeom>
          <a:ln w="507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9142560" cy="1587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3333cc"/>
              </a:gs>
              <a:gs pos="100000">
                <a:srgbClr val="cc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3040"/>
            <a:ext cx="9142560" cy="81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cc9900"/>
              </a:gs>
              <a:gs pos="100000">
                <a:srgbClr val="cc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6294600"/>
            <a:ext cx="2666880" cy="458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6934320" y="6246720"/>
            <a:ext cx="1904760" cy="5731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291960" y="333360"/>
            <a:ext cx="990720" cy="63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OMA 2.4 Progress and Pla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tt Haney, Mark Mitchell, James Crotinger, Jeffrey Oldham, and Stephen Smi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tober 22, 2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os Alamos National Laborat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r initial performance measurements indica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kernels are currently about 15% slower than C; we understand the reason and believe we can reduce this difference to zer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already generally performs and scales better than POOMA R1 in tests of a simple 2D diffusion kernel. Speed-up can be as much as 50%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sts ranged from 1-400 processo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tch sizes ranged from 40K to 2.5M cells/patch with 1-9 patches per process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r work to date has emphasized abstractions and correct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.4 Path to February 2002 Relea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ance optimiz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ed up iterate generation by caching iterates, intersections, and guard cell fills and localizing intersection calculation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 iterate scheduling by removing some serialization in guard cell fil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ine  benefits of consolidating messages and eliminating message cop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ine optimizing stencils without guard layers and/or implementing “on demand” guard lay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timize iterate performance to reduce field abstraction penalty and obtain C performa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 compile times by supporting preinstantiation and removing template dependenc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and document prior to relea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ture Wor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multi-block fields (locally structured, but globally unstructure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 and implement support for implicit meth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otype unstructured implement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run time and compile time optim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 users guide and reference manu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ild commun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sk Mitig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hnical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OMA 2 uses abstraction, encapsulation, flexibility to manage complexity and employs good software engineering. POOMA should be one of multiple approach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l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OMA is ANSI/ISO standard C++, non-proprietary, and fully open sour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nel and performance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ximation and CodeSourcery are paid to be responsive. Can easily attract and quickly hire high-quality C++ experts for projec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ding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 interested parties can share cost of POOMA developmen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lifetime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n source projects like POOMA can attract significant community support: community helps ensure continuit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OMA: Parallel Object-Oriented Methods and Applica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high-performance C++ toolkit supporting rapid application development in computational physics areas of interest to the Blanca Projec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lti-material hydrodynamic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tron transpor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open source template libra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run on platforms ranging from PCs to the largest parallel supercomputers in the wor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allow computer science experimentation while maintaining a powerful and stable computational physics AP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282600"/>
            <a:ext cx="99036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ed in late 1997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lete re-design and re-write of POOMA R1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abstra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encapsul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e flexible and extensib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software enginee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perform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roximately 25 person-years of effort to d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OMA 2.4 level of effort is 2.25 F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usage by Blanca in early 200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.4 Project Go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ish work on a new discrete field abstraction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DONE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features to achieve parity with POOMA R1 capabilities and to satisfy Blanca requirement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DONE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some non-trivial example/benchmarking code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In progress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mize run time and compile time performance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In progress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technical support to Blanca developer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Continuing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ing code base to production qual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ease POOMA 2.4 at the end of February 200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New Field Abstrac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3956040" y="1791360"/>
            <a:ext cx="49593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entering&lt;Dim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okeCentering(FaceType, Continuou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et up centering poi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. . 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eld&lt;Mesh_t, T_t, EngineTag_t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(numMaterials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okeCentering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yout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sh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57200" y="3124080"/>
            <a:ext cx="2598840" cy="2598480"/>
            <a:chOff x="457200" y="3124080"/>
            <a:chExt cx="2598840" cy="2598480"/>
          </a:xfrm>
        </p:grpSpPr>
        <p:sp>
          <p:nvSpPr>
            <p:cNvPr id="57" name=""/>
            <p:cNvSpPr/>
            <p:nvPr/>
          </p:nvSpPr>
          <p:spPr>
            <a:xfrm>
              <a:off x="509400" y="3171600"/>
              <a:ext cx="2498760" cy="2498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58960" y="3171600"/>
              <a:ext cx="0" cy="2498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09040" y="4420800"/>
              <a:ext cx="2498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" y="373356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51280" y="3732120"/>
              <a:ext cx="104760" cy="10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" y="498780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51280" y="4984560"/>
              <a:ext cx="10476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03400" y="561780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01600" y="3124080"/>
              <a:ext cx="10332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57280" y="561780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55840" y="3124080"/>
              <a:ext cx="10332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53880" y="1609920"/>
            <a:ext cx="294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elds support multip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terials and arbitr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ll/face/edge/verte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nterings that may b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inuous or discontinuou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ter C++ Modeling of Computational Physics Abstrac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28600" y="1905120"/>
            <a:ext cx="3452760" cy="3504960"/>
            <a:chOff x="228600" y="1905120"/>
            <a:chExt cx="3452760" cy="3504960"/>
          </a:xfrm>
        </p:grpSpPr>
        <p:grpSp>
          <p:nvGrpSpPr>
            <p:cNvPr id="71" name=""/>
            <p:cNvGrpSpPr/>
            <p:nvPr/>
          </p:nvGrpSpPr>
          <p:grpSpPr>
            <a:xfrm>
              <a:off x="696960" y="1905120"/>
              <a:ext cx="2598120" cy="2597760"/>
              <a:chOff x="696960" y="1905120"/>
              <a:chExt cx="2598120" cy="259776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748800" y="1952640"/>
                <a:ext cx="2498400" cy="2498040"/>
                <a:chOff x="748800" y="1952640"/>
                <a:chExt cx="2498400" cy="24980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48800" y="1952640"/>
                  <a:ext cx="2498400" cy="249804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998360" y="1952640"/>
                  <a:ext cx="0" cy="24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H="1">
                  <a:off x="748800" y="3201480"/>
                  <a:ext cx="249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>
                <a:off x="696960" y="251424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191040" y="2512440"/>
                <a:ext cx="104040" cy="10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96960" y="376812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91040" y="3765960"/>
                <a:ext cx="104040" cy="10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43160" y="439884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341000" y="1905120"/>
                <a:ext cx="103680" cy="10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97040" y="4398840"/>
                <a:ext cx="10368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594520" y="1905120"/>
                <a:ext cx="104040" cy="10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937880" y="3146040"/>
              <a:ext cx="108360" cy="108000"/>
              <a:chOff x="1937880" y="3146040"/>
              <a:chExt cx="108360" cy="108000"/>
            </a:xfrm>
          </p:grpSpPr>
          <p:sp>
            <p:nvSpPr>
              <p:cNvPr id="85" name=""/>
              <p:cNvSpPr/>
              <p:nvPr/>
            </p:nvSpPr>
            <p:spPr>
              <a:xfrm flipH="1" flipV="1">
                <a:off x="1941840" y="3146040"/>
                <a:ext cx="104400" cy="10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1937880" y="314784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328400" y="2515320"/>
              <a:ext cx="108000" cy="107280"/>
              <a:chOff x="1328400" y="2515320"/>
              <a:chExt cx="108000" cy="107280"/>
            </a:xfrm>
          </p:grpSpPr>
          <p:sp>
            <p:nvSpPr>
              <p:cNvPr id="88" name=""/>
              <p:cNvSpPr/>
              <p:nvPr/>
            </p:nvSpPr>
            <p:spPr>
              <a:xfrm flipH="1" flipV="1">
                <a:off x="1332720" y="2515320"/>
                <a:ext cx="103680" cy="107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1328400" y="251676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682200" y="3146040"/>
              <a:ext cx="108360" cy="108000"/>
              <a:chOff x="682200" y="3146040"/>
              <a:chExt cx="108360" cy="108000"/>
            </a:xfrm>
          </p:grpSpPr>
          <p:sp>
            <p:nvSpPr>
              <p:cNvPr id="91" name=""/>
              <p:cNvSpPr/>
              <p:nvPr/>
            </p:nvSpPr>
            <p:spPr>
              <a:xfrm flipH="1" flipV="1">
                <a:off x="686160" y="3146040"/>
                <a:ext cx="104400" cy="10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82200" y="314784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>
              <a:off x="333000" y="3201840"/>
              <a:ext cx="41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28600" y="3324240"/>
                  <a:ext cx="19044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1582560" y="3271680"/>
                  <a:ext cx="276480" cy="2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957240" y="2681280"/>
                  <a:ext cx="38088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Ñ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436680" y="5029200"/>
                  <a:ext cx="3244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pok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ll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Ñ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edian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ell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ac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8" name=""/>
          <p:cNvSpPr/>
          <p:nvPr/>
        </p:nvSpPr>
        <p:spPr>
          <a:xfrm>
            <a:off x="3733920" y="2819520"/>
            <a:ext cx="609480" cy="838080"/>
          </a:xfrm>
          <a:prstGeom prst="rightArrow">
            <a:avLst>
              <a:gd name="adj1" fmla="val 53028"/>
              <a:gd name="adj2" fmla="val 41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334760" y="1753200"/>
            <a:ext cx="456984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q =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t(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t(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K, cellToSpoke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gradP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dianCellToSpok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outwardNormals(mesh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aceToSpok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ther Accomplish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ed “relations” that codify the notion of independent and dependent fields and perform lazy evaluation of dependent fiel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ed capability to read and write POOMA R1 “DiscField” files along with new support for sharing files between SGI and Compaq machi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ed ability to easily export and import Field data to/from Fortran subrouti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d source under QMTest automatic testing harness; started regression tes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eloped Caramana Hydro and Stratigraphic Flow example cod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xed a (VERY) few bu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de particles classes compatible with the new multi-material fiel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rumented POOMA for TAU profiling; started performance measurement and optimiz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pport for Flexibility and Extensibilit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representa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ick, Compressible-brick, Remote, Multi-patch, Analyt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out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Grid, Tile, Sparse T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able # of internal/external guard lay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sh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Non-uniform, Lagrangi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undary Condi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lemented as rel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tant, Reflective, Period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titioner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Grid, Tile, Bi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z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bly out of ord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llelis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P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-threaded (SMAR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5441040"/>
            <a:ext cx="36576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s can extend all of thes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ter Software Engineeri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3428640"/>
            <a:ext cx="8153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is ANSI/ISO Standard C++; POOMA R1 is no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is implemented with better low-level abstractions; thus, it easier and faster to implement complex pieces of the framework, as well as complex user co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has more comments and more error check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OOMA R1 versions of these are more complex than the numbers indicate as they involve explicit message pass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6640" y="1658880"/>
          <a:ext cx="8013960" cy="15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658880"/>
                    <a:ext cx="801396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7:33:36Z</dcterms:created>
  <dc:creator>Scott Haney</dc:creator>
  <dc:description/>
  <dc:language>en-US</dc:language>
  <cp:lastModifiedBy>Scott Haney</cp:lastModifiedBy>
  <cp:lastPrinted>2001-10-19T20:42:01Z</cp:lastPrinted>
  <dcterms:modified xsi:type="dcterms:W3CDTF">2001-10-21T23:02:49Z</dcterms:modified>
  <cp:revision>81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18413099</vt:r8>
  </property>
  <property fmtid="{D5CDD505-2E9C-101B-9397-08002B2CF9AE}" pid="3" name="_AuthorEmail">
    <vt:lpwstr>gregw@whitten.net</vt:lpwstr>
  </property>
  <property fmtid="{D5CDD505-2E9C-101B-9397-08002B2CF9AE}" pid="4" name="_AuthorEmailDisplayName">
    <vt:lpwstr>Gregory Whitten</vt:lpwstr>
  </property>
  <property fmtid="{D5CDD505-2E9C-101B-9397-08002B2CF9AE}" pid="5" name="_EmailSubject">
    <vt:lpwstr>LithTech Presentation</vt:lpwstr>
  </property>
</Properties>
</file>