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61179"/>
        <c:axId val="90029484"/>
      </c:barChart>
      <c:catAx>
        <c:axId val="31561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29484"/>
        <c:crosses val="autoZero"/>
        <c:auto val="1"/>
        <c:lblAlgn val="ctr"/>
        <c:lblOffset val="100"/>
        <c:noMultiLvlLbl val="0"/>
      </c:catAx>
      <c:valAx>
        <c:axId val="90029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61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57B-B748-4AFB-B482-8CC2643E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CC0-9842-4D96-B7CD-617E5190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A46-6C21-4E9E-9555-D9092749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1C6-7D33-4FD3-948E-83FCCBA9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7A0-50F3-4679-8A27-4BCE1257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EE7-1B99-4497-9CCD-78FAD882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A15-EFF8-414C-BBFD-3A2BEA44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9D0B-9DE6-448B-AB76-F683FBD1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86A-B131-4CFF-85A3-B052BC9B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936-B559-4E31-B656-B967B138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9FF-317E-46F6-983A-CE8C7106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010-DD90-4A0F-A3A2-DA3F2450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6AF4B-1FE9-47D8-ADD2-51AA771C7B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