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86025"/>
        <c:axId val="86314750"/>
      </c:barChart>
      <c:catAx>
        <c:axId val="21786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14750"/>
        <c:crosses val="autoZero"/>
        <c:auto val="1"/>
        <c:lblAlgn val="ctr"/>
        <c:lblOffset val="100"/>
        <c:noMultiLvlLbl val="0"/>
      </c:catAx>
      <c:valAx>
        <c:axId val="86314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86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675-5966-4E11-8422-3EBAFF7A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6D4-5B86-4EDD-8DF3-BE6D1A1B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2FE-4E71-4607-8AAE-8B4D1B04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F70-A8D4-4ED2-9E70-9A992A9C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F10-C38C-4824-8CD0-087B8CF0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68A-D2D7-4167-AB8A-D0B89957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8BC-7D63-44C3-9A1B-292B2A6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873-EA4C-4DDE-B17C-3822D07A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1A1-185C-45D3-BEAD-D0DC0FD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5E2-D0BF-422B-BD95-7A4799DD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3E0-0878-4EF8-9BA3-CA35772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D60-C003-4D95-9427-A7561BC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1A26F-0212-4A54-9B34-A8E1A909AE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