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58785"/>
        <c:axId val="14323679"/>
      </c:barChart>
      <c:catAx>
        <c:axId val="49758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23679"/>
        <c:crosses val="autoZero"/>
        <c:auto val="1"/>
        <c:lblAlgn val="ctr"/>
        <c:lblOffset val="100"/>
        <c:noMultiLvlLbl val="0"/>
      </c:catAx>
      <c:valAx>
        <c:axId val="14323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8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93B-5926-46AE-8F83-7481EBAC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F19-923B-43D2-A851-5A17E8E6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0FD-DADA-465B-AF68-9841ABE2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FBC-6FCD-463E-8256-1D654513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24C-5FB2-46D6-BACE-CBCBE080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273-B82B-44C7-8CEE-3D42E21D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2D2-C4AA-4F8F-B4CC-9999258D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508-5A54-4825-97B8-EBFF0F53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732-B050-413C-B273-4049338C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6AB-C3A2-4C03-8A3A-33E63370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9D4-00A4-460D-A44E-E5BA27A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5AC-4B3A-4950-9D18-E6C7FAE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A1235-7F33-4285-9EAA-7AAC62562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