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9BD-5E32-42DB-A391-C64534A3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10B-100C-48C8-AFE9-4F80FABB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9B7-BA50-4283-A080-940C2C41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1C4-8C2F-417C-AA5F-0769544B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08E-CB95-4F29-891B-E74B13AC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B66-54F5-4C4D-B505-8A48C5A0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7A2-A158-492F-8ED9-0850C3C5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937-D453-4B67-A504-5E32569E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59A-8C0E-4527-9603-5D12CBC5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40A-8FAE-4A1C-BD57-0337428A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FEA-AFE9-4E25-841A-B5A4A8E4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49E-F044-47D6-9FB8-3FDA5FBF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0792-8931-45EB-86D9-4F3FDFA79A2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EB6C-A35C-439F-837C-A119C3664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B53-8E81-429C-B38F-40D98D2B6D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7E153-4998-4305-AAA3-2FEAEF1615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E50-C334-4CC1-98E4-B58FC2E717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AB02E-D604-44D4-9B36-DE1342C3EF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A21-CD0A-4481-8311-06C2B89BF6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0D46A-6574-4BAB-A2FD-D33F18357B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scheduling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187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4"/>
            <a:endCxn id="185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5" idx="4"/>
            <a:endCxn id="175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3" idx="1"/>
            <a:endCxn id="176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4" idx="3"/>
            <a:endCxn id="182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1"/>
            <a:endCxn id="192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7" idx="3"/>
            <a:endCxn id="198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4B8-676A-4CE2-ACC2-023A47F20C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84BBA-B77B-4579-AAFC-48540FEC48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2"/>
            <a:endCxn id="252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A20-DBDF-4F1E-B06C-C792CFB570F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FFEAF-DA7F-4F84-94F1-FBE8F0BE9D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1"/>
            <a:endCxn id="276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7"/>
            <a:endCxn id="277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8" idx="6"/>
            <a:endCxn id="277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sort of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60D-ACC1-46AD-81AF-272843F528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DD0AF-7835-4439-AB51-3E0394A669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s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A75-2256-4BD1-848A-03DE87F03B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A0553-4FAE-4CFF-8DAE-7CCC9511FA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23600" y="2212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k c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22880" y="2651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b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33320" y="2193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wh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0" idx="2"/>
            <a:endCxn id="304" idx="7"/>
          </p:cNvCxnSpPr>
          <p:nvPr/>
        </p:nvCxnSpPr>
        <p:spPr>
          <a:xfrm rot="5400000">
            <a:off x="5163480" y="3412800"/>
            <a:ext cx="1119960" cy="51048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0" idx="2"/>
            <a:endCxn id="305" idx="0"/>
          </p:cNvCxnSpPr>
          <p:nvPr/>
        </p:nvCxnSpPr>
        <p:spPr>
          <a:xfrm flipH="1" rot="16200000">
            <a:off x="5529240" y="3557160"/>
            <a:ext cx="1083240" cy="18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0" idx="2"/>
            <a:endCxn id="306" idx="0"/>
          </p:cNvCxnSpPr>
          <p:nvPr/>
        </p:nvCxnSpPr>
        <p:spPr>
          <a:xfrm flipH="1" rot="16200000">
            <a:off x="5899680" y="3186000"/>
            <a:ext cx="1083240" cy="92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0" idx="2"/>
            <a:endCxn id="313" idx="0"/>
          </p:cNvCxnSpPr>
          <p:nvPr/>
        </p:nvCxnSpPr>
        <p:spPr>
          <a:xfrm flipH="1" rot="16200000">
            <a:off x="6309360" y="2776320"/>
            <a:ext cx="1083240" cy="174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302" idx="2"/>
            <a:endCxn id="308" idx="0"/>
          </p:cNvCxnSpPr>
          <p:nvPr/>
        </p:nvCxnSpPr>
        <p:spPr>
          <a:xfrm rot="5400000">
            <a:off x="7480800" y="2932920"/>
            <a:ext cx="682920" cy="11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62400" y="264780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BC4-522E-4AD2-8E07-0EB24C3DF4B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B49B4-B56F-41AA-A0E5-C67C613BE2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4" idx="2"/>
            <a:endCxn id="329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D8A-95F0-48C3-A13A-FA24BCCCAC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60663-8D2F-4DFD-9C7C-77F0B02A87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ropped using a notion of 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tension of same principle can also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976-CDD4-458C-B280-F8BBE30B67B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BFCA9-2C2B-40DE-8C99-971B525187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21A-1289-4604-9A55-B5ABD50C0B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DBFFC-74AA-41E0-B59C-0860FA5508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715-16B9-4F04-B354-3F3EDA0EC10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F6FC8-7E0A-4820-8671-6EFC37113C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probe map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7E2-E1D5-4CF5-B7B6-3AD69B4948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05B34-4F65-40F1-B6E3-B195613282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2" idx="1"/>
            <a:endCxn id="385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3" idx="3"/>
            <a:endCxn id="384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1"/>
            <a:endCxn id="382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2"/>
            <a:endCxn id="383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C64-AD30-4F20-8F3E-987DB145C74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B4FBC-6BF1-4A3F-B266-64B1B589E0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04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DA4B-00E0-4E0B-9473-61993DEDB3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0AFA5-7F5D-4441-972E-A2B496FED4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3"/>
            <a:endCxn id="413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4" idx="1"/>
            <a:endCxn id="410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5" idx="2"/>
            <a:endCxn id="416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26" idx="2"/>
            <a:endCxn id="414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2" idx="0"/>
            <a:endCxn id="411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421" idx="0"/>
            <a:endCxn id="409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3" idx="0"/>
            <a:endCxn id="420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97D-2BBD-44CC-8B0D-97C28CEAD9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F20D1-9D65-4C2A-A822-EF2C25A9F4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Rhapsody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reator and destructor functions as in C++, nor overloading of functions or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058-552D-404A-9306-3113E809900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C16F9-C632-4401-995E-ED11F96A56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4"/>
            <a:endCxn id="445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3" idx="4"/>
            <a:endCxn id="444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endCxn id="439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endCxn id="438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3" idx="0"/>
            <a:endCxn id="440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5" idx="2"/>
            <a:endCxn id="441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1"/>
            <a:endCxn id="449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7" idx="1"/>
            <a:endCxn id="449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C0F-47EA-4CD2-8768-F643E61BD5C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6B2D5-781E-4ABB-9C51-B4042F688C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ons of instance variables 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ssage: (type)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2720" y="1981080"/>
            <a:ext cx="404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F12-F0C0-4E4B-9B32-1AD61DAF088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51157-EBE9-4299-8F5C-4D4E10F992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 (type)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E44-CEEC-43D0-B0E8-555CE4A6455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27909-A7CF-43F5-B2C3-6D8B8D2CCA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29C-54CC-4758-8937-1AD2D129A03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26D0F-1E70-41F2-9291-F19F93CCE0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61A-0EA7-4E1E-82FD-1CEDE699FC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6FADD-9632-4843-9906-E6A9811FA0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FD1-0BBE-428D-BB84-0387FAB805C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8071F-666B-435D-A65D-438D400994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 etc.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turning no value must retur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4F7-8C6A-46DB-883D-2C39296ED7D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629C1-32DE-43BD-860F-03CF2A2881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 name: (type) arg1 argName2: (type) arg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arg1,(type) arg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4BC-80A7-4795-AB44-1D2540303FA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ECB30-CB47-418E-B85D-3EC7438C6F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C vs.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1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rand_move(int i)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mp_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mp_loc=get_rand_lo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val[tmp_loc]!=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location[i]]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tmp_loc]=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8560" y="1981080"/>
            <a:ext cx="390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rand_move: p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=[self getRand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[world at: loc]!=ni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 moveTo: 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188-D665-474D-BB92-798091A22B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9AAE6-7629-4D2C-8414-3EB3C52B98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730-1FD6-44B6-9D83-4F3BADA9417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634F4-A03E-4A24-A05E-4E7A2AC780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FCC-60E2-4E97-BFEF-94FD4DB4CA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61B30-5459-4060-9093-E77CE7D8AD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in 1994 by Chris Langton at Santa Fe Institute in New Mexico (Contributors: Chris Langton, Roger Burkhart, Nelson Minar, Manor Askenazi, Glen Ropella, Sven Thommesen, Marcus Daniels, Alex Lancaster, Irene L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create a common simulation platform for A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sed in beta in 1995, 1.0 release in January 1997, 1.1 with Win95/NT support : April 19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: Windows 95/NT version, (Rhapsody?), other GUI implementations, client-server approach, paralel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E05-CEEA-409B-8C29-5D85DF6976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D520C-54CC-4D95-BA76-959228252C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/Tcl: Scripting language and GUI widgets. GUI is now independent of this implementation and may be substituted by other widget sets in near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X-Windows/Unix and Windows 95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E79-73D4-4D80-B00D-1FC20DD7E3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BD4DD-3EC7-4BC6-AD41-13A8A8FC46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endCxn id="53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B8D-603E-47E9-9D14-90C7068AA3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F5D9A-7A81-4CDF-81B1-E17E362089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5160" y="2550960"/>
            <a:ext cx="2689200" cy="26892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3440" y="319896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40520" y="42688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1600" y="36892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9800" y="549108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63520" y="3879360"/>
            <a:ext cx="243540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6D9-2346-4152-886F-2E50BDD86E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7488E-6411-49C7-BE09-604BF8437B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0AA-C602-4947-A1B7-82E1A97E22E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D1E91-C6AC-4C6E-B7AB-4619C3BFAC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’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7" idx="4"/>
            <a:endCxn id="126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7" idx="4"/>
            <a:endCxn id="125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5280" y="2521080"/>
            <a:ext cx="83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026D-D3C1-45A5-89C8-FDFB7F224E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2E06C-228A-46EE-BA9F-3A1EF695BA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Benedikt Stefansson</cp:lastModifiedBy>
  <dcterms:modified xsi:type="dcterms:W3CDTF">1998-03-19T09:05:11Z</dcterms:modified>
  <cp:revision>24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