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4A26-805A-4930-822B-0F2D13F7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9D30-6A21-4F8B-9994-FC5ED1B9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22A5-329D-4AEA-9667-453C4C5E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63B-4B00-4B3C-BB8B-70560010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8C80-721E-4369-90AE-CF83C928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B6EB-A75D-44D0-A557-ADF4BC1C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8D07-EA13-4DD4-A7A8-BD9E0B9C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0CAE-3767-42ED-872C-46B77D41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7F38-3492-4A49-B212-37AFAA22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1283-DAA2-43D1-BB6A-C35DB160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EAC1-5E2F-42D4-B29C-5C54724C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CBB-FE69-4D4B-A7D7-7CFFFB93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F955-CDE0-458D-8E5A-E3F63A9F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91AA-0D3C-47EB-8778-5E236B9F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D53E-D3D2-4E72-B584-49252DEE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6A90-A50A-42B2-BA61-27F5BB58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1C72-C844-4C81-B69F-4C59442E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A3AA-CE06-42F5-81C7-5512E0C0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6D2-2585-44F8-92E1-607080B7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424-300C-4C09-8FA7-0578D296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21B-0FB5-45D5-9E96-2A5CAD31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608-AE8E-4CEA-A421-440090D5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DDDE-4FFF-473C-B8B1-2254FFF1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1FD-FFF6-4A1B-AFBD-4F1DBC46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86E1-EFCC-42CD-AF88-547FC30C55E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AE35-C405-470F-A61C-D8269FC96854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plomverteidig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hem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Untersuchung zur Realisierbarkeit einer technologieneutral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apping-Schicht für den Datenaustausch am Beispiel einer Anwendu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um medizinischen Formulardruck als integrativer Bestandteil e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lectronic Health Record (EH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lmenau, den 27.01.2003        *        25973        *        Torsten Ku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2 Auszug des E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ERD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5832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3 Kommunikationsmod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Resmedicinae_2Tie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4 Klassendiagram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Gesamtmodell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5. Der Prototyp: </a:t>
            </a:r>
            <a:r>
              <a:rPr b="0" i="1" lang="de-DE" sz="4400" spc="-1" strike="noStrike">
                <a:solidFill>
                  <a:srgbClr val="ffcc66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ReForm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 Zusammenfass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essere Strukturierung von Prgrammcode mit Softwaremu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schiedene Persistenzmechanismen garantieren ein sicheres Arb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teile verteilter Anwendungen werden für die Verwaltung der Patientenkarteien genutz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kombiniert Persistenz und Kommunikation in einer Schic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ransparent, flexibel erweit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1 Ausbli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llständige Implementierung der entworfenen Mod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s Formulardesigners für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gleichartigen Codes aus den Fat-Clients und Entwicklung eines Drei-Schichten-Mod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elche Fragen sind offen geblieb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Question1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2017800" cy="2200320"/>
          </a:xfrm>
          <a:prstGeom prst="rect">
            <a:avLst/>
          </a:prstGeom>
          <a:ln w="0">
            <a:noFill/>
          </a:ln>
        </p:spPr>
      </p:pic>
      <p:pic>
        <p:nvPicPr>
          <p:cNvPr id="146" name="Question2" descr=""/>
          <p:cNvPicPr/>
          <p:nvPr/>
        </p:nvPicPr>
        <p:blipFill>
          <a:blip r:embed="rId2"/>
          <a:stretch/>
        </p:blipFill>
        <p:spPr>
          <a:xfrm>
            <a:off x="6095880" y="2590920"/>
            <a:ext cx="2816280" cy="3805200"/>
          </a:xfrm>
          <a:prstGeom prst="rect">
            <a:avLst/>
          </a:prstGeom>
          <a:ln w="0">
            <a:noFill/>
          </a:ln>
        </p:spPr>
      </p:pic>
      <p:pic>
        <p:nvPicPr>
          <p:cNvPr id="147" name="Question3" descr=""/>
          <p:cNvPicPr/>
          <p:nvPr/>
        </p:nvPicPr>
        <p:blipFill>
          <a:blip r:embed="rId3"/>
          <a:stretch/>
        </p:blipFill>
        <p:spPr>
          <a:xfrm>
            <a:off x="1143000" y="3505320"/>
            <a:ext cx="1612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smedicinae_3Tier" descr=""/>
          <p:cNvPicPr/>
          <p:nvPr/>
        </p:nvPicPr>
        <p:blipFill>
          <a:blip r:embed="rId1"/>
          <a:stretch/>
        </p:blipFill>
        <p:spPr>
          <a:xfrm>
            <a:off x="378000" y="380880"/>
            <a:ext cx="4620960" cy="609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15400" y="803160"/>
            <a:ext cx="30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rei-Schichten-Mod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Inha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orstellung des Projektes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otivation und Zielstell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lementare Architekturen (Softwaremus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gener Ansatz (Modelle und Umsetzu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Prototyp: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Zusammenfassung und Ausb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 Res Medicina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zeichnung aus dem Lateinisch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u deutsch: „Sache der Medizi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ponentenbasiertes Open Source 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nt der Verwaltung, Darstellung, Auswertung und sicheren Verteilung von Patienten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imäre Zielgruppe: Ärzte, ArzthelferInnen, Pati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forderungsanalyse parallel zur Realisierungsphas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=&gt; Extreme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eines Framewor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1 Eine Einsatzmöglichke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bination von Handheld / Tablet PC mit dem Krankenb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rtsunabhängi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ringerter Verwaltungsaufwand für die Ärz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otwendigkeit eines Sicherheits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nwendungen2_Krankenhaus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05320" cy="2732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1752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1560" y="1752480"/>
            <a:ext cx="37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richtungsinterne Nutz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 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 einziger Persistenzmechanismus ist unzureichend für die Datenspeicherung moderner Software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munikation zwischen den einzelnen Modulen 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notwendig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en von externen Services (OMG HDTF: PIDS, CIAS, CO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sergebnisse sollen abstrahierbar und in das Framework aufnehmbars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1 Aufgabenstell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r transparenten Schicht, um Domain Model und Backend möglichst unabhängig voneinander zu gestalt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asis: Softwarem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 von Kommunikationsparadigmen und Finden einer allgemeinen Möglichkeit, diese transparent zu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esten der umgesetzten Modelle anhand eines zu erstellenden Prototypen zum elektronischen Formulardru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3. Zwei wesentliche Softwaremuster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                          </a:t>
            </a: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für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Persisten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DataMaper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429000" cy="3535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412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Kommunik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248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Ma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6248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Transfer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DTO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114800" cy="3503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029200"/>
            <a:ext cx="2590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2362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4191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236196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495680"/>
            <a:ext cx="586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153280" y="3733920"/>
            <a:ext cx="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 Eigener Ansat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51520" y="2125800"/>
            <a:ext cx="36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66720" y="1904760"/>
            <a:ext cx="4496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odel-View-Controller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zur Präsentation der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omain Mode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Electronic Health Record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)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gener Datentyp für die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e einzige Schicht für die transparente Datensicherung und Kommunik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Persistenzschicht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Back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LogischeArchitektur_Resmedicinae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26120" cy="4648320"/>
          </a:xfrm>
          <a:prstGeom prst="rect">
            <a:avLst/>
          </a:prstGeom>
          <a:ln w="0">
            <a:noFill/>
          </a:ln>
        </p:spPr>
      </p:pic>
      <p:pic>
        <p:nvPicPr>
          <p:cNvPr id="123" name="DataMaper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6095880" y="45720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040" y="5105520"/>
            <a:ext cx="2895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495680"/>
            <a:ext cx="1752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28951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57913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1 Dateien und Tabellen</a:t>
            </a:r>
            <a:br>
              <a:rPr sz="4400"/>
            </a:br>
            <a:r>
              <a:rPr b="0" lang="de-DE" sz="1800" spc="-1" strike="noStrike">
                <a:solidFill>
                  <a:srgbClr val="ffcc66"/>
                </a:solidFill>
                <a:latin typeface="Arial"/>
              </a:rPr>
              <a:t>Zwei entworfene und umgesetzte Persistenzmechanismen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XML2DB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763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07:39:32Z</dcterms:created>
  <dc:creator>zonie</dc:creator>
  <dc:description/>
  <dc:language>en-US</dc:language>
  <cp:lastModifiedBy>zonie</cp:lastModifiedBy>
  <dcterms:modified xsi:type="dcterms:W3CDTF">2003-01-22T14:39:41Z</dcterms:modified>
  <cp:revision>130</cp:revision>
  <dc:subject/>
  <dc:title>Diplomverteidigung</dc:title>
</cp:coreProperties>
</file>